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618-F189-4B80-8389-E9CF0BFE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5F7-757C-4F05-99FA-3568E23F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FD3-EC66-4278-AE56-73CFA937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56D-A1AA-42E2-9C8A-D7FB9968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3CC-7768-4C2A-8525-037A586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AF4-F889-4063-B527-A025359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0AA-1489-4096-A9A3-DD3BDA9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4BC-779C-4427-851B-758324B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F72-65A1-417F-8384-EB2427F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B5E-40B3-4BC4-8EAD-050358C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96B-FD44-4F09-8F77-8BFF8C1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A96-7A3A-487A-A84E-FD5FB12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73DC-289B-4C84-8386-840E0B76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 Clase 6NH(601)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13 de nov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4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Dónde compras materiales esco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the following expressions in a sentence;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lo puedes usar “yo” 1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ar m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apu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tar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car n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conjugan los verbos en el presente, se escriben los pronombres en orden y se remplaza 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siguiente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When conjugating verbs in the present tense, you write the Spanish Subject Pronouns in order and you replace the –AR in the following form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–</a:t>
            </a: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7800" y="41148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7080" y="4525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2160" y="49831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4403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80" y="586728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800" y="41148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67000" y="45720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8520" y="5029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94840" y="54403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6120" y="58975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384120"/>
            <a:ext cx="82170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mpl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conjugar un verbo, se mantiene la raíz del verbo y se remplaza la ter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conjugate a verb, you keep the root of the verb and replace the e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4114800"/>
            <a:ext cx="68580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114800"/>
            <a:ext cx="609480" cy="609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64832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46479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19920" y="46479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9548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58000" y="3581280"/>
            <a:ext cx="4572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6480" y="3276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6400" y="531828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ff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80400" y="32446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TER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i="1" lang="es-ES_tradnl" sz="1200" spc="-1" strike="noStrike">
                <a:solidFill>
                  <a:srgbClr val="008000"/>
                </a:solidFill>
                <a:latin typeface="Arial"/>
              </a:rPr>
              <a:t>(EN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76120" y="5334120"/>
            <a:ext cx="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ff"/>
                </a:solidFill>
                <a:latin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BL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bl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pea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152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5360" y="25146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9360" y="2514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5360" y="32004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5360" y="3962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0120" y="3992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9040" y="46782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9040" y="52880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A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conjuga de la siguiente for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in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135160" y="24685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4800" y="32004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38862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7242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4160" y="544032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-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7640" y="243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3800" y="243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87000" y="32004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4012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7000" y="3962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396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0680" y="46782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4160" y="46782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0680" y="52880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3800" y="52880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a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juga los verbos en el pres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80" y="1447920"/>
          <a:ext cx="8839080" cy="533340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88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tudi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study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mina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walk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71720" y="2514600"/>
            <a:ext cx="6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7760" y="33526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41911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02920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791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6560" y="25448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2560" y="327672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42670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-Ella-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1055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791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-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 los siguiente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r (to wa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r (to c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ar (to thr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ar (to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lar (to d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6:31Z</dcterms:created>
  <dc:creator>Helen Zumaeta</dc:creator>
  <dc:description/>
  <dc:language>en-US</dc:language>
  <cp:lastModifiedBy>Helen Zumaeta</cp:lastModifiedBy>
  <dcterms:modified xsi:type="dcterms:W3CDTF">2012-11-13T03:55:54Z</dcterms:modified>
  <cp:revision>11</cp:revision>
  <dc:subject/>
  <dc:title>Me llamo ________ Clase 6NH La fecha es el 15 de febrero del 2012</dc:title>
</cp:coreProperties>
</file>